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BDB-D982-446C-B209-CD310A10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011-6977-4EB5-81F8-20E5F447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866-05F2-4C69-BEC2-A69A236D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42D-60D1-4951-9781-B4822C33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2EE-8EAD-454D-91C2-5E3EA1AF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A2B-B6B6-46B8-B374-5FAB5A8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3D5-1D69-43A8-BEE0-6401523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7A3-6D35-4FF7-85F1-08FCF038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1DA-F3C6-4219-B748-B4347B6D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3DE-E8AB-4C94-A778-53B5E92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E01-9D7C-4BF1-BBE0-20478F7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CAA-F2E3-4857-B30B-AC1279BD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870-1F61-42C3-90A7-4D4AB6ECA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7/01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8/02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1/03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0/06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6"/>
            <a:endCxn id="42" idx="2"/>
          </p:cNvCxnSpPr>
          <p:nvPr/>
        </p:nvCxnSpPr>
        <p:spPr>
          <a:xfrm>
            <a:off x="1219320" y="3124440"/>
            <a:ext cx="16765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6"/>
            <a:endCxn id="44" idx="2"/>
          </p:cNvCxnSpPr>
          <p:nvPr/>
        </p:nvCxnSpPr>
        <p:spPr>
          <a:xfrm>
            <a:off x="5867280" y="3124440"/>
            <a:ext cx="2896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6"/>
            <a:endCxn id="43" idx="2"/>
          </p:cNvCxnSpPr>
          <p:nvPr/>
        </p:nvCxnSpPr>
        <p:spPr>
          <a:xfrm>
            <a:off x="3657600" y="3124440"/>
            <a:ext cx="14482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4"/>
            <a:endCxn id="44" idx="4"/>
          </p:cNvCxnSpPr>
          <p:nvPr/>
        </p:nvCxnSpPr>
        <p:spPr>
          <a:xfrm rot="16200000">
            <a:off x="4991040" y="-647640"/>
            <a:ext cx="360" cy="83059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1" idx="0"/>
            <a:endCxn id="44" idx="0"/>
          </p:cNvCxnSpPr>
          <p:nvPr/>
        </p:nvCxnSpPr>
        <p:spPr>
          <a:xfrm rot="16200000">
            <a:off x="4991040" y="-1409760"/>
            <a:ext cx="360" cy="8305920"/>
          </a:xfrm>
          <a:prstGeom prst="bentConnector3">
            <a:avLst>
              <a:gd name="adj1" fmla="val -6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055880" y="254016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yse de l’exi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8840" y="254016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sation c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44840" y="254016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duite du chan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66760" y="139716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unication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1320" y="526716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stio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1" idx="4"/>
            <a:endCxn id="43" idx="4"/>
          </p:cNvCxnSpPr>
          <p:nvPr/>
        </p:nvCxnSpPr>
        <p:spPr>
          <a:xfrm rot="16200000">
            <a:off x="3162240" y="1181160"/>
            <a:ext cx="360" cy="46483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640240" y="42004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515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 </cp:lastModifiedBy>
  <cp:lastPrinted>2000-05-11T10:17:14Z</cp:lastPrinted>
  <dcterms:modified xsi:type="dcterms:W3CDTF">2009-05-05T08:51:23Z</dcterms:modified>
  <cp:revision>99</cp:revision>
  <dc:subject/>
  <dc:title>Présentation PowerPoint</dc:title>
</cp:coreProperties>
</file>